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0F5-E21F-49FA-A1E4-6E91B656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84A-825E-48BF-A418-0C97BFC2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AAD35-4211-4687-9CB9-7F88E6DB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6DA98-E189-4620-81D3-5F4859FE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5FE0E-CCB8-4182-A4C1-E11972F3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BF4AC-DA59-4257-BBFF-04CE960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3DA48-5DF9-4A3C-B5B5-51740204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214B0-B29B-4D93-A832-F16E2583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EECF2-0D94-40E9-8D75-2BB729BC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6D710-6C13-44CA-9EED-3A51D70F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277FF-76D1-44FC-9E84-2A9F369D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B3F4D-4938-4DED-90E9-858754A1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E12-6B65-4DAC-B204-9A92D6D6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E84E7-23E4-4C73-A5E1-1650C143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B62C3-D421-4DDC-A1ED-69D095AF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6A34B-F1EC-4A07-AEC1-CF3C410E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8D602-748E-4583-A64A-F3161E48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E91BF-1CA7-4219-9769-32F89D1E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46BEB-1883-4D9A-A2DD-01A4FF5F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050DE-31B3-4FB5-8B5F-F70E0003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91170-15BE-4B53-A0BC-695C5F72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B884D-C1A9-4E20-834F-0135FC73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50633-25BF-4A74-B3F4-C20090CA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0B8-5CA9-4E93-9D7B-DCC828F3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DEA87-5BD1-4A6C-BA02-7F5D13C9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0E459-EDB8-4BD1-91BD-C42CDA1A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50C66-EA12-41D2-A5CA-935F1961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DB674-A674-4FCF-B1D0-43787989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AAC8F-D0FD-45FB-A1AF-AACE899D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4561E-8CF0-4241-BA3F-EE7257EC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D3E59-D4F3-43E6-9585-3BDD04AC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FC8B3-8BE9-4130-A951-282FD794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6811D-BD9D-4462-BAB4-99E2C1F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C6258-A59D-488D-977E-86B88A1F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5A5B-50B5-4EE5-ADAB-090E9B97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E196C-B62A-4810-AE83-36B774B7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288DD-499F-42E8-8096-F2A81ACB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E66B5-38B8-4F0D-913F-500A4752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5F2F0-D73F-4C14-B48A-39289F3D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65979-F648-41BB-8CB5-EA07C015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2AC28-1428-42F9-B91C-4B952A3B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1629B-1D25-4EE5-AAB0-97804004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0EA9F-0D0C-47DD-9B2A-B66B9D1A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CC6B4-A284-49F2-998A-EF6D70FE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6927A-20EA-4945-BA10-6225B9C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9121-6319-4423-8F2D-4CAB51CA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F1E5F-5A9C-431B-9930-F980A31B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23C46-B008-423F-A7D8-9035E725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D427B-ED5C-4DBC-B15D-91CD39B4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3278E-5155-4ECE-BE45-F82E3FFD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6900B-9765-4D2D-86A7-4F46E81A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7828A-A52A-4267-8A31-D428A15F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AECB0-D1EB-42CE-9299-42E8C7BB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87D0C-D5DC-4C90-9EB3-63D07CDE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6957B-4F0F-4CCB-9419-60B95803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12C41-E2BD-42E3-875F-281A011F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5008-6072-4E45-A976-2C9E770C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9091B-B1D3-4E21-8A67-670E14EA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1EE51-DFF1-48AC-920A-8CC01984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885A5-F6F9-4B20-9391-40E5A456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28DD3-34AB-4092-8F66-CDC928D2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0CF29-8145-42A5-BD12-29F81507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EAA2A-B4F6-4491-A72E-2CDD773D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0ADBB-DBFE-4B48-BD40-2FE41B1D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5B955-39E0-4892-8C57-A560A6AC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9D9A6-C294-47A1-85A3-0DAD2CFA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105F2-4A87-422A-9365-00A659E3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1FBB-6F75-4F9F-B78A-9FAD2C73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FE558-7CAC-40E2-AE7B-8B2FBAC6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56918-980C-40DB-8021-19599F5D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4409A-9B6B-4343-A6F1-CF3D44A0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E646F-C6F0-4CD3-A4D4-A49CEBA1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9AFC9-E45A-40F0-95AD-C156187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42845-FE05-4494-A6C0-07E9005E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2E6FE-5C82-4AB1-94EF-82B4DB63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40A04-AE14-4C79-98A6-AB299DB6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E9134-D0D2-44E8-AA03-D8299844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E4B93-4F66-4E8E-B8C0-4938B831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0329-4F7F-4229-BC46-65D273EE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D9547-B85E-45D8-BCB8-B43D60CF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E5BCC-04D5-4EF7-82AF-92AFB31A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884B5-8546-4898-9007-CF1E96DC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E0530-37F0-4467-B75D-0658771A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AE6BA-2710-495B-907D-13E2B338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F5F57-DDD9-427F-A4A0-1A80FD9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A6A43-AA32-444F-BF7E-16B30C37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108D0-DC96-4380-9418-3364DCB9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798F3-C0EC-4CA8-A4A6-2418DB9B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BF2B0-A69A-4D24-AAFB-F8A7AC6E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4B32-6419-43B3-9CCD-6F0958A0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62984-A0C7-4650-A05D-1FAEE256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2AB1C-E222-4AF0-90DF-69194EF1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558D4A-ACD7-4B16-AC85-F8315C99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BDD41-1EBC-43ED-A3F1-A1D493E6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CE8C2-7A2D-44A4-A537-A35BE033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EE64B-B58F-462F-A4DB-78010FF2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63F15-97F1-47BC-BA84-C3798D68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51AAA-4F7E-4ECC-AEC7-146C975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E975E-0CE6-4415-BB50-8C6229FF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6BCF88-6727-4E1D-A928-D5EB434D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805B-ACB4-4B54-BE6D-908F0539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7C5AD-5C51-4301-8E21-BA6EFDCA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C824A-A317-4FC0-A61F-CE8B6D98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803F9-CC10-4CB5-A888-9B144473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2A281-CC09-4612-93C6-1F8E05D2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F68BC3-4DE2-43E6-97FC-F9EAA335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10F96-4243-4270-AEEE-4203F5A2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5D9D5-285F-4C99-AEB4-7978E9FA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3346B-6F97-4F35-8B58-055D0F4D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91B4C-AAE4-4C69-8BF8-BF7EEF77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CC00C-E39F-43FF-9AAA-23C5F35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3CA-80D4-45F3-BFE3-4B97262B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1D15-C566-46E1-9962-02F3B63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30B8B-293A-4FBC-A4CD-0577E35D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16D3C6-8863-40CF-A78F-39839E99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891EE8-49BB-44B9-AB4B-918C7B44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4F488-A3B4-45D7-8CEE-FC72BE71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080F3-417E-44C3-9803-4B6B3DC5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C266F2-CD03-4652-8B0E-CA6C923E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DEEC7-9141-4C61-BA5B-3ED84243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BC9D6-40ED-4202-ACBF-E48CCDCC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7B8DDF-505C-4251-A54A-956E5173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50D58-C11D-4D09-A9B1-A4326BA9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7386-F54F-430B-B634-E53FBBA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6069E-0C93-4E40-9BBA-32DC35DF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98908-E380-4E31-87FC-33DFEE7D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8A7D3-0EFD-44FE-A9C4-658AECC3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553E4-9705-4319-91E3-8E1D9105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C5642C-A058-463D-8A1A-88AC5847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BCB79-F174-4FCB-9ABC-96C5C4C6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3C0D4-B6F8-41B4-BDAD-3AFF956E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033D6F-BC91-4269-83D6-C2749875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6863E-854E-4548-A06F-9E85C3C7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7C72F-3A7D-4AA2-8DC6-941C54CA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D5F9-32CE-41CD-9049-117C3C45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25174C-EA86-478E-8011-7F0FBD3D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8AB3A3-1A56-4C5C-B248-692CC882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82172-AC0E-4939-B564-01B0C55A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18874-C5C1-4FC9-9A26-10CE2374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A412A3-D0E3-4DFD-8230-B7758D28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C0FB31-29F4-4A54-A74F-58435A1D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4CC50-05CD-4A4D-98FA-6480F34C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F4F5C-BCA7-4BD5-B7C3-8326EC28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C0CB4B-5209-4BCC-BC25-A896030C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609A6B-37CD-43E6-BA6E-73A78FA6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0F26-6EA7-451D-9E21-6C54A5EC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EC7135-5C4C-447A-9467-6569E2BF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D0EAB3-4999-46C3-951F-C7E49DE3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705C8F-3D27-4D91-8A0E-CDE9D4E3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209985-C020-4A14-BA66-713AF280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B74F97-BCD2-4628-B016-07F4D7CD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B9EBF-090B-4743-A2AF-304BA82F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89639-1158-4DDD-9DA3-80BDA799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0D5A55-B73D-460B-B0CC-8B6F8BA8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AC206D-2FC8-4A22-8726-1E66E2E2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04D34-02A4-48F9-866F-5BAFC114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5C50-D1F4-4D34-A54F-3D556E8D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2A8D3-A566-4564-B194-386AA2A3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422B7-BF77-45E5-BAE9-176035AB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5BCF4-D5B7-4406-8BB1-FAF959B8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52BFD-5411-4114-B59A-A685A445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202CEB-1F3A-46D7-BEC9-85239706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6C4CF-83C4-4198-A2F7-0C714F6A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A4417D-6683-4758-9197-1F0E599C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1529E3-1DDD-49E7-8FF4-3E7AB81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F3CDD-9A2B-4FFD-A73F-24F14CE6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A18A1D-62AE-4A5C-B66C-35ABB3F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1DC5-5B23-4740-9A29-1029C3F2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9F6626-F217-487A-94B1-A102BD09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FD50B3-3DFB-4945-AC83-B2B2A037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088AF-9643-459B-9693-9E4DC40C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1CC0-84A6-43D9-BBA7-C33FC233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B98A-8804-49A9-A4BF-9446EF71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13064-62AA-47C7-9AE1-A4F3EFD4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0D132-A3BC-4A74-A669-55739068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33E-9441-4181-8AEA-B1CEF0E8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4059-E29F-4E0A-842F-30F03784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3E898-77BD-4C16-ABEE-1CB57C3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0124-16AF-4C5E-9359-CD841B3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655D-9E95-4ADA-BADD-9D6C46C1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DC74-E98A-4B8A-9736-7CDDC5D2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C6BC-E55E-46E8-9B33-9236D68C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777C-3DF5-4230-9213-B270B6DA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947EA-2FD8-462D-984E-0A2AA6D3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A8D0B-F820-44D4-AC0C-A711C217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37A6-5FF8-40B3-99A0-23587C7A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3DC-68F4-4172-8849-992A97CE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488A5-13C6-46C9-B8D3-3B87D1C2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3E73B-AC2B-48B0-960D-BFA65B8D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3AA9-98E1-4910-BEAE-1946C189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7D37-15BC-4660-BB6B-BA3BB534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77BB3-6822-4DBA-81A7-33CCB74E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238F-F4A1-43DD-B171-235B3049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BB753-AE59-4CD2-B26F-646D3D5C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06F1-F057-4EA7-B6C0-6E1E4207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F779B-B6DD-4D48-9552-F92361DB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F298D-B15D-4636-B85C-7357B059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53D-2646-408B-8284-FAA5222F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20CD-5F73-49BC-9477-7F054525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0970A-E1A9-44E7-A33A-2719A847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2C8EF-DD80-475E-B523-75603F9B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B623F-63A2-4D7F-ACF3-D22A828F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7FEFA-2495-4EB9-BDA0-87D1EB6D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57F47-5C28-40E8-A130-3107B8B8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AAC0-03B2-4DA8-BE85-F953E52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54A32-0309-4FE5-9ECF-36285E82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A501C-8173-4C3F-A17C-718AE588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2BC71-F700-464E-B5A5-99CEA0C0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5CB-2387-45F2-98C1-7B1CB347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0058E-15C9-4A50-93C7-0785393A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8613E-2B08-4C97-A489-126C6C15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7BF52-F088-4808-8A94-6707EC21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16D0-0DCD-4C6E-9603-09BDB874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6FCB-3DA8-4905-A9B1-0C770925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80A11-9298-4B0F-9ACA-5F796DAE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80C15-DD0D-4840-82EF-369F070B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138A9-646B-4B44-9FF7-D191A199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F9D4B-0855-4B6B-82C8-F3DDE885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6A016-CD4B-4BB6-99BC-9E7E6D9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82D-196F-4740-B7F7-5DD021E3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1CCF-709F-46DD-964A-FA9339AB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EE53B-DB11-427A-9BFB-FF7AE583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8981C-96F9-4155-8C0A-03ACA7F4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CF86E-A3E7-46AA-88AF-A6DEFF79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D054C-9D9F-423E-9CE9-2788776B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2A5BD-BDBF-4471-8C03-B840A0AD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F44D8-B343-4285-AA88-4777AF68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90FB-62AA-4688-A558-8F34B85E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E7CB7-67E1-48AB-87A8-8F96361B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3F44A-519B-47E4-BE40-082BE641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9ED-34C8-4FE0-ADFC-73206568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F667B-591D-4984-9671-4AEFA113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9C1B1-6865-49C8-A8B0-C42F1417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D8495-2421-425E-BBBE-2C6EEC2B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AD942-119B-4320-B773-734055FE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49E9D-CEB9-4C51-87C5-995EAE2D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532CC-8E28-40EC-8920-F2D387AE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DA7F2-6927-46BD-92D2-B68E51E0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9A38D-B508-4FFC-8814-C458098E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CBB14-3D73-46AD-8AA5-0B19A45B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90F5F-12D2-40A9-80B1-6B53AD5B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6DF-AAFE-450C-AB83-7ACE10D8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84A3D-AC77-41B4-8AC9-9EF5F13B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BE511-4688-47AE-818B-4FC3C85A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ECB2D-613A-4724-9DF6-2B5C5FF3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9356A-92F0-4554-8D3E-529B32D8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685D2-AECA-44CF-9A61-D8EC94E1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D4E18-B160-4F25-BF35-4E1E6682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D0FB8-9A15-4509-954E-1D189A74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19164-9CEB-4465-B9ED-D2B7B880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33D0B-82A0-42F5-B969-250EA779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BF62F-B9AD-4130-BAEA-2B64334C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5C06-4806-44F0-AC88-6B28B5FDA4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0AAA-52E3-4B18-BA41-AD31E49531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6574-6703-47C3-9FD7-453387DCB9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44DA-BF95-4086-AA3E-E89A4A87E8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A686-ABB8-4024-B0A2-697D8B6CF8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EFDB-62BC-4743-B70A-C8F90AAA57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0D93-A635-4109-8B02-8A61AEEEBC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D6F4-D35E-49C8-A448-F0E3C0C3D3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DAE7-7A02-4E85-976E-B2CE260B2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9246-0270-4AF0-BE6D-BB8C237812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0BF4-3C2C-4459-B5C6-C5F3BA9282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9B51-64EC-43C4-9F32-A4CC350381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60D-09D1-4FF9-B40F-A667C0C78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BCE3-C969-4FFF-80D9-E195FFEA3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5421-8E46-410B-9343-D0F833CB8B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9E76-2FE2-411E-AE80-D626920493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042D-E01E-4BDD-B5D0-3968CA43B3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7853-30ED-47FF-8DF5-9C07C55C3C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DF86-9B0E-4E00-A109-1D4802EB50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0424-6C49-4C92-AED6-1BCBD576ED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19D6-3AF9-492F-BB8A-59FF39D83F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4DB9-4B05-49C9-913F-E2FA4CEA71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DC0B-2721-41E1-A58E-B9F286CCA1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D34B-19F3-4ED0-A716-E5008C09CA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EC1F-85FD-4994-9C01-51874E2E9B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1517-DC71-4C77-82EE-D9AF7F8558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4DA7-9059-4BF6-9CA1-CE158C0ABB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305B-03E6-45A8-AD40-7BB6486513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C820-5A07-4B0A-9AAE-FCFF8651AF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B63D-2F26-4F25-91C2-9828DE5D6F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E194-8056-4173-93F4-9CDDB5517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4A11-6676-40B0-93E2-716C052838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8612-5682-4BC9-BBE4-0FCC990168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1607-0DE8-4D92-BADE-62DEF08339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A324-0891-4A03-9D35-68BA3F639F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8C2F-5AE8-40AC-9D6F-3AF4027EB7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8734-CB10-49EC-9D20-42FE414D7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D09F-CDC7-4530-B7C5-3F92E2583D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804-0D14-4972-9DA7-A0A8A99A06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0857-5E82-483E-908C-9A3ED0ACDC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095480" y="3033720"/>
            <a:ext cx="69530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69633" descr=""/>
          <p:cNvPicPr/>
          <p:nvPr/>
        </p:nvPicPr>
        <p:blipFill>
          <a:blip r:embed="rId1"/>
          <a:stretch/>
        </p:blipFill>
        <p:spPr>
          <a:xfrm>
            <a:off x="285840" y="852480"/>
            <a:ext cx="8572320" cy="5153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936360" cy="4428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4284720" y="3429000"/>
            <a:ext cx="936720" cy="4428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3780000" y="4984920"/>
            <a:ext cx="647640" cy="4428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2484360" y="5516640"/>
            <a:ext cx="647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8609" descr=""/>
          <p:cNvPicPr/>
          <p:nvPr/>
        </p:nvPicPr>
        <p:blipFill>
          <a:blip r:embed="rId1"/>
          <a:stretch/>
        </p:blipFill>
        <p:spPr>
          <a:xfrm>
            <a:off x="233280" y="1386000"/>
            <a:ext cx="86774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67585" descr=""/>
          <p:cNvPicPr/>
          <p:nvPr/>
        </p:nvPicPr>
        <p:blipFill>
          <a:blip r:embed="rId1"/>
          <a:stretch/>
        </p:blipFill>
        <p:spPr>
          <a:xfrm>
            <a:off x="1643040" y="1338120"/>
            <a:ext cx="5857920" cy="4181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1692360" y="1370160"/>
            <a:ext cx="5759280" cy="834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1692360" y="2233440"/>
            <a:ext cx="5327640" cy="4431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1692360" y="2824200"/>
            <a:ext cx="5759280" cy="834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5"/>
          <a:stretch/>
        </p:blipFill>
        <p:spPr>
          <a:xfrm>
            <a:off x="1619280" y="3730680"/>
            <a:ext cx="5759280" cy="8348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6"/>
          <a:stretch/>
        </p:blipFill>
        <p:spPr>
          <a:xfrm>
            <a:off x="1692360" y="4724280"/>
            <a:ext cx="57592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66561" descr=""/>
          <p:cNvPicPr/>
          <p:nvPr/>
        </p:nvPicPr>
        <p:blipFill>
          <a:blip r:embed="rId1"/>
          <a:stretch/>
        </p:blipFill>
        <p:spPr>
          <a:xfrm>
            <a:off x="271440" y="1062000"/>
            <a:ext cx="8601120" cy="47340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3924360" y="4221000"/>
            <a:ext cx="718920" cy="4431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973080" y="5257800"/>
            <a:ext cx="719280" cy="4428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4"/>
          <a:stretch/>
        </p:blipFill>
        <p:spPr>
          <a:xfrm>
            <a:off x="6012000" y="5272200"/>
            <a:ext cx="10810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33280" y="1271520"/>
            <a:ext cx="8677440" cy="4314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6516720" y="208440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4572000" y="249228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6084720" y="2881440"/>
            <a:ext cx="432000" cy="3175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3233880" y="3284640"/>
            <a:ext cx="431640" cy="3175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755640" y="3701880"/>
            <a:ext cx="431640" cy="317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3492360" y="5200560"/>
            <a:ext cx="4320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9410" descr=""/>
          <p:cNvPicPr/>
          <p:nvPr/>
        </p:nvPicPr>
        <p:blipFill>
          <a:blip r:embed="rId1"/>
          <a:stretch/>
        </p:blipFill>
        <p:spPr>
          <a:xfrm>
            <a:off x="185760" y="662040"/>
            <a:ext cx="8772480" cy="5791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8244000" y="1600200"/>
            <a:ext cx="360360" cy="3175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2771640" y="3976560"/>
            <a:ext cx="576360" cy="3175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8244000" y="5300640"/>
            <a:ext cx="360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8373" descr=""/>
          <p:cNvPicPr/>
          <p:nvPr/>
        </p:nvPicPr>
        <p:blipFill>
          <a:blip r:embed="rId1"/>
          <a:stretch/>
        </p:blipFill>
        <p:spPr>
          <a:xfrm>
            <a:off x="195120" y="828720"/>
            <a:ext cx="8753760" cy="55530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647640" cy="3175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2700360" y="1197000"/>
            <a:ext cx="647640" cy="317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5450040" y="1600200"/>
            <a:ext cx="647640" cy="317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2987640" y="2017800"/>
            <a:ext cx="504720" cy="3175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4572000" y="2017800"/>
            <a:ext cx="504720" cy="3175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755640" y="2421000"/>
            <a:ext cx="504720" cy="317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8302680" y="3746520"/>
            <a:ext cx="3585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7352" descr=""/>
          <p:cNvPicPr/>
          <p:nvPr/>
        </p:nvPicPr>
        <p:blipFill>
          <a:blip r:embed="rId1"/>
          <a:stretch/>
        </p:blipFill>
        <p:spPr>
          <a:xfrm>
            <a:off x="262080" y="763560"/>
            <a:ext cx="8619840" cy="59054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7956720" y="1341360"/>
            <a:ext cx="5029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6324" descr=""/>
          <p:cNvPicPr/>
          <p:nvPr/>
        </p:nvPicPr>
        <p:blipFill>
          <a:blip r:embed="rId1"/>
          <a:stretch/>
        </p:blipFill>
        <p:spPr>
          <a:xfrm>
            <a:off x="271440" y="957240"/>
            <a:ext cx="8601120" cy="49435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8101080" y="3213000"/>
            <a:ext cx="5032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5300" descr=""/>
          <p:cNvPicPr/>
          <p:nvPr/>
        </p:nvPicPr>
        <p:blipFill>
          <a:blip r:embed="rId1"/>
          <a:stretch/>
        </p:blipFill>
        <p:spPr>
          <a:xfrm>
            <a:off x="252360" y="115920"/>
            <a:ext cx="8136000" cy="6656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7524720" y="1628640"/>
            <a:ext cx="5032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4276" descr=""/>
          <p:cNvPicPr/>
          <p:nvPr/>
        </p:nvPicPr>
        <p:blipFill>
          <a:blip r:embed="rId1"/>
          <a:stretch/>
        </p:blipFill>
        <p:spPr>
          <a:xfrm>
            <a:off x="299880" y="266760"/>
            <a:ext cx="8544240" cy="6324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619280" y="2435400"/>
            <a:ext cx="503280" cy="4428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6516720" y="2982960"/>
            <a:ext cx="5032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52231" descr=""/>
          <p:cNvPicPr/>
          <p:nvPr/>
        </p:nvPicPr>
        <p:blipFill>
          <a:blip r:embed="rId1"/>
          <a:stretch/>
        </p:blipFill>
        <p:spPr>
          <a:xfrm>
            <a:off x="290520" y="733320"/>
            <a:ext cx="8562960" cy="53913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1547640" y="2766960"/>
            <a:ext cx="1079640" cy="4428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1079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5:3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